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57AD-C2C1-4CA3-8FBA-6D29FAC61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69A3-F2D4-4152-A307-04ECAE258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FDFB-CE6E-4D89-8C8B-8EA23CC57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F063-B823-4668-AB82-62D04B06F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A81D-6956-4EC0-8280-4F2FDB2C4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3BAB-2C28-49BC-AE5C-022555BAB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D515-34ED-407B-8FDB-766920B3E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38BB-7139-4008-8CE3-F3B31AF41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B161-132F-4E74-A1A6-CBA841734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9E39-A373-42EF-88EC-9ED69FAA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EA92-517C-48A5-8951-7C09583E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D2C-CF70-4B14-95A5-72FA275D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976D-C1BF-4FCF-B18F-BA83FC8E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75B-CD4F-4159-912F-47B18A62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424A-0CA2-4866-AE51-22708CA3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F16A-1466-4048-934C-BC0D3FCB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DB4-5CC3-4FD6-9475-00CD00A0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E3F-BDA5-4CA9-9B75-4C644CAD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CC1F-796A-4929-BC14-C45D253D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9A4D-B9F8-40FC-B82D-6EA800AF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CA67-19CA-4D36-8A43-985A3892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59BA-56EA-4D98-967E-831D3E88A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PcnCWZP7l0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Energy in the Water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ndentify types of energy and energy transformations associated with movement and/or change of mat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Straight Arrow Connector 5"/>
          <p:cNvCxnSpPr/>
          <p:nvPr/>
        </p:nvCxnSpPr>
        <p:spPr>
          <a:xfrm>
            <a:off x="1219320" y="2895120"/>
            <a:ext cx="915120" cy="305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3" name="TextBox 9"/>
          <p:cNvSpPr/>
          <p:nvPr/>
        </p:nvSpPr>
        <p:spPr>
          <a:xfrm>
            <a:off x="0" y="24382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Water Vapor in the Atmo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9" descr="Picture 1 08-31-43.png"/>
          <p:cNvPicPr/>
          <p:nvPr/>
        </p:nvPicPr>
        <p:blipFill>
          <a:blip r:embed="rId1"/>
          <a:stretch/>
        </p:blipFill>
        <p:spPr>
          <a:xfrm>
            <a:off x="2286000" y="2438280"/>
            <a:ext cx="6858000" cy="506124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70"/>
          <p:cNvGrpSpPr/>
          <p:nvPr/>
        </p:nvGrpSpPr>
        <p:grpSpPr>
          <a:xfrm>
            <a:off x="4952520" y="6400080"/>
            <a:ext cx="4191480" cy="456120"/>
            <a:chOff x="4952520" y="6400080"/>
            <a:chExt cx="4191480" cy="456120"/>
          </a:xfrm>
        </p:grpSpPr>
        <p:cxnSp>
          <p:nvCxnSpPr>
            <p:cNvPr id="76" name="Straight Arrow Connector 6"/>
            <p:cNvCxnSpPr/>
            <p:nvPr/>
          </p:nvCxnSpPr>
          <p:spPr>
            <a:xfrm flipH="1" flipV="1">
              <a:off x="4952520" y="6400080"/>
              <a:ext cx="838800" cy="229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77" name="TextBox 10"/>
            <p:cNvSpPr/>
            <p:nvPr/>
          </p:nvSpPr>
          <p:spPr>
            <a:xfrm>
              <a:off x="5790960" y="6487920"/>
              <a:ext cx="33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Surface Runo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7" descr="Picture 1 08-31-43.png"/>
          <p:cNvPicPr/>
          <p:nvPr/>
        </p:nvPicPr>
        <p:blipFill>
          <a:blip r:embed="rId1"/>
          <a:stretch/>
        </p:blipFill>
        <p:spPr>
          <a:xfrm>
            <a:off x="5334120" y="762120"/>
            <a:ext cx="4267080" cy="314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1219320"/>
          <a:ext cx="5105520" cy="1485720"/>
        </p:xfrm>
        <a:graphic>
          <a:graphicData uri="http://schemas.openxmlformats.org/drawingml/2006/table">
            <a:tbl>
              <a:tblPr/>
              <a:tblGrid>
                <a:gridCol w="1447920"/>
                <a:gridCol w="3657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Vapor in the Atmosp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 Water in Clou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 Water on the Su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iner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quid Water in a 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0" y="3733920"/>
          <a:ext cx="9144000" cy="2663640"/>
        </p:xfrm>
        <a:graphic>
          <a:graphicData uri="http://schemas.openxmlformats.org/drawingml/2006/table">
            <a:tbl>
              <a:tblPr/>
              <a:tblGrid>
                <a:gridCol w="1219320"/>
                <a:gridCol w="2971800"/>
                <a:gridCol w="1828800"/>
                <a:gridCol w="31240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p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Trans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ter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y Trans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/Pum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ap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/Pum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vitational potential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gravitational kine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en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mical potential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hermal kine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p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pe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rface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cc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3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Gravitational energy, thermal energy, and/or chemical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 energy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drive all movement and change of matter on Ear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2. A system is in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quilibrium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when energy in the system is balan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4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Energy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 is needed to break bonds and is released when bonds fo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5. </a:t>
            </a: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Temperature 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is a measure of the movement of molecules. Higher temperature means molecules are moving faster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netic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a body has due to its m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he energy stored in a body due to its position or arrangement of its parts. Potential energy is converted into kinetic energy when matter moves or chemical energy when matter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vitation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that draws objects together.  On earth most gravitational energy is due to the attraction between the earth and other obj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 ener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of a body that results from the movement of molecules within the bod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nergy that is due to the arrangement of atoms and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Temperatur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0" y="12254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average kinetic energy of molecules. This is also known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Do molecules move faster in cold or warm 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Molecules move faster in warm air because they have mor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181480" y="6334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aviamet.gr/user_images/molecules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molecules1.jpg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Phase Chang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219320" y="63532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HeatCool.gif"/>
          <p:cNvPicPr/>
          <p:nvPr/>
        </p:nvPicPr>
        <p:blipFill>
          <a:blip r:embed="rId1"/>
          <a:stretch/>
        </p:blipFill>
        <p:spPr>
          <a:xfrm>
            <a:off x="1143000" y="1117440"/>
            <a:ext cx="673092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: Latent He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nt heat is the energy stored during a phase change.  This video demonstrates how the process of freezing releases he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youtube.com/watch?v=1PcnCWZP7l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6" name="Picture 6" descr="watercyclesummary.jpg"/>
          <p:cNvPicPr/>
          <p:nvPr/>
        </p:nvPicPr>
        <p:blipFill>
          <a:blip r:embed="rId1"/>
          <a:stretch/>
        </p:blipFill>
        <p:spPr>
          <a:xfrm>
            <a:off x="457200" y="762120"/>
            <a:ext cx="83059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ogy: Simple System vs Water Cycl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304920" y="121932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ervoirs: Several connected containers of water can serve as a model for the more complex natural water cyc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29" descr="Picture 1 08-31-43.png"/>
          <p:cNvPicPr/>
          <p:nvPr/>
        </p:nvPicPr>
        <p:blipFill>
          <a:blip r:embed="rId1"/>
          <a:stretch/>
        </p:blipFill>
        <p:spPr>
          <a:xfrm>
            <a:off x="1523880" y="2057400"/>
            <a:ext cx="685800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7:15:31Z</dcterms:created>
  <dc:creator>Julie Libarkin</dc:creator>
  <dc:description/>
  <dc:language>en-US</dc:language>
  <cp:lastModifiedBy>Nicole LaDue</cp:lastModifiedBy>
  <dcterms:modified xsi:type="dcterms:W3CDTF">2011-01-14T18:54:23Z</dcterms:modified>
  <cp:revision>306</cp:revision>
  <dc:subject/>
  <dc:title>PowerPoint Presentation</dc:title>
</cp:coreProperties>
</file>